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Fine Ha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Fine Ha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Fine Ha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46C4-BB6C-4E7E-B9A4-47C4648AA09C}" type="slidenum">
              <a:rPr b="0" lang="nb-NO" sz="1200" spc="-1" strike="noStrike">
                <a:solidFill>
                  <a:srgbClr val="000000"/>
                </a:solidFill>
                <a:latin typeface="Fine Ha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ssholder for lysbilde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282E-E66A-4215-B24F-DD4B91B7982B}" type="slidenum">
              <a:rPr b="0" lang="nb-NO" sz="1200" spc="-1" strike="noStrike">
                <a:solidFill>
                  <a:srgbClr val="000000"/>
                </a:solidFill>
                <a:latin typeface="Fine Ha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514-2BA7-4DF6-8E95-0D61B89E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5DF-E7AA-43FB-BB08-5AF148E7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EBA-5FA6-46CA-83CE-B13A1301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A75-2265-4D33-90E9-A23653E0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7F9-949A-4369-AF59-CCD886AA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A21-3141-4627-84CD-4EC3D6C1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FD8-1036-48BC-B3F6-BB4EBD52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F0F-5CFC-43B5-A954-262093E6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ECC-ACAE-4472-AFEF-09CA9092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96A-F25F-4FF5-A90A-15C03F88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36C-736D-4F96-AE03-B757A5AD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4EC-38D4-4DB6-AFC5-99E936C9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D54E-8D0A-4BCA-B328-69252D35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ine Hand"/>
              </a:rPr>
              <a:t>Poem</a:t>
            </a:r>
            <a:r>
              <a:rPr b="0" lang="en-US" sz="4400" spc="-1" strike="noStrike">
                <a:solidFill>
                  <a:srgbClr val="000000"/>
                </a:solidFill>
                <a:latin typeface="Fine Hand"/>
              </a:rPr>
              <a:t> 4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ine Hand"/>
              </a:rPr>
              <a:t>By Emily Dicki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45440" cy="5049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550600" y="33336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The Tyrian would not come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24000" y="243000"/>
            <a:ext cx="8424720" cy="631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4656240" y="2144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Until the North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582520" y="26370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Invoke it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990960" y="306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Creator 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7"/>
          <p:cNvSpPr/>
          <p:nvPr/>
        </p:nvSpPr>
        <p:spPr>
          <a:xfrm>
            <a:off x="324000" y="189000"/>
            <a:ext cx="813744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Shall I-bloom? </a:t>
            </a:r>
            <a:r>
              <a:rPr b="0" lang="en-US" sz="2800" spc="-1" strike="noStrike">
                <a:solidFill>
                  <a:srgbClr val="808080"/>
                </a:solidFill>
                <a:latin typeface="Fine Hand"/>
              </a:rPr>
              <a:t>Shall I –bloom? 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-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 –bloom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? Shall I 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 </a:t>
            </a:r>
            <a:endParaRPr b="0" lang="en-US" sz="18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–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-bloom? Shall I –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 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-bloom? 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bloom? Shall I-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Shall I –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Shall I –bloom? Shall I bloom? </a:t>
            </a:r>
            <a:r>
              <a:rPr b="0" lang="en-US" sz="1800" spc="-1" strike="noStrike">
                <a:solidFill>
                  <a:srgbClr val="808080"/>
                </a:solidFill>
                <a:latin typeface="Fine Hand"/>
              </a:rPr>
              <a:t>Shall I-bloom?</a:t>
            </a:r>
            <a:r>
              <a:rPr b="0" lang="en-US" sz="2400" spc="-1" strike="noStrike">
                <a:solidFill>
                  <a:srgbClr val="808080"/>
                </a:solidFill>
                <a:latin typeface="Fine Hand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Shall I –bloom? Shall I –bloom? 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4356000" y="1125360"/>
            <a:ext cx="3961080" cy="3918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4624200" cy="597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856440" y="3789360"/>
            <a:ext cx="41097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Fine Hand"/>
              </a:rPr>
              <a:t>Dwell in</a:t>
            </a:r>
            <a:endParaRPr b="0" lang="en-US" sz="66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Fine Hand"/>
              </a:rPr>
              <a:t>Possibility</a:t>
            </a:r>
            <a:endParaRPr b="0" lang="en-US" sz="66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Fine Hand"/>
              </a:rPr>
              <a:t>Emily Dickinson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2024280" y="4437000"/>
            <a:ext cx="525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ine Hand"/>
              </a:rPr>
              <a:t>Shall I-Bloom?</a:t>
            </a:r>
            <a:endParaRPr b="0" lang="en-US" sz="60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6120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001400" y="51577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God made a little Gentian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051560" y="923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It tried to be -</a:t>
            </a:r>
            <a:r>
              <a:rPr b="0" lang="en-US" sz="1800" spc="-1" strike="noStrike">
                <a:solidFill>
                  <a:srgbClr val="000000"/>
                </a:solidFill>
                <a:latin typeface="Fine Ha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509800" y="58896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 Rose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88000" cy="4267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332360" y="9921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nd failed 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243360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5317560" y="90792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nd all the summer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5205240" y="1484280"/>
            <a:ext cx="2810160" cy="3745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5708880" y="436572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ine Hand"/>
              </a:rPr>
              <a:t>Laughed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324000" y="243000"/>
            <a:ext cx="8208720" cy="6156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1471680" y="77616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ine Hand"/>
              </a:rPr>
              <a:t>But just before the snows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714840" y="404640"/>
            <a:ext cx="4537080" cy="6048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023840" y="1484280"/>
            <a:ext cx="23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There rose a 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Purple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Creature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71640" y="3860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That ravished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ll the hill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696000" cy="5022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373400" y="5877000"/>
            <a:ext cx="64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Fine Hand"/>
              </a:rPr>
              <a:t>And Summer hid her forehead-</a:t>
            </a:r>
            <a:endParaRPr b="0" lang="en-US" sz="32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5904000" cy="4600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187280" y="40464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And Mockery –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547760" y="501336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ine Hand"/>
              </a:rPr>
              <a:t>Still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888720" y="4365720"/>
            <a:ext cx="48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ine Hand"/>
              </a:rPr>
              <a:t>The Frosts were her condition-</a:t>
            </a:r>
            <a:endParaRPr b="0" lang="en-US" sz="2400" spc="-1" strike="noStrike">
              <a:solidFill>
                <a:srgbClr val="000000"/>
              </a:solidFill>
              <a:latin typeface="Fine Hand"/>
            </a:endParaRPr>
          </a:p>
        </p:txBody>
      </p:sp>
    </p:spTree>
  </p:cSld>
  <p:transition spd="slow" advTm="8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3:56:54Z</dcterms:created>
  <dc:creator>Jan Morten</dc:creator>
  <dc:description/>
  <dc:language>en-US</dc:language>
  <cp:lastModifiedBy>aniol</cp:lastModifiedBy>
  <dcterms:modified xsi:type="dcterms:W3CDTF">2009-03-10T21:16:32Z</dcterms:modified>
  <cp:revision>12</cp:revision>
  <dc:subject/>
  <dc:title>Lysbilde 1</dc:title>
</cp:coreProperties>
</file>